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jpeg" ContentType="image/jpeg"/>
  <Override PartName="/ppt/media/image23.wmf" ContentType="image/x-wmf"/>
  <Override PartName="/ppt/media/image13.png" ContentType="image/png"/>
  <Override PartName="/ppt/media/image8.png" ContentType="image/png"/>
  <Override PartName="/ppt/media/image14.jpeg" ContentType="image/jpeg"/>
  <Override PartName="/ppt/media/image16.wmf" ContentType="image/x-wmf"/>
  <Override PartName="/ppt/media/image12.png" ContentType="image/png"/>
  <Override PartName="/ppt/media/image20.jpeg" ContentType="image/jpeg"/>
  <Override PartName="/ppt/media/image7.png" ContentType="image/png"/>
  <Override PartName="/ppt/media/image10.png" ContentType="image/png"/>
  <Override PartName="/ppt/media/image25.jpeg" ContentType="image/jpeg"/>
  <Override PartName="/ppt/media/image2.wmf" ContentType="image/x-wmf"/>
  <Override PartName="/ppt/media/image22.wmf" ContentType="image/x-wmf"/>
  <Override PartName="/ppt/media/image21.wmf" ContentType="image/x-wmf"/>
  <Override PartName="/ppt/media/image5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jpeg" ContentType="image/jpeg"/>
  <Override PartName="/ppt/media/image24.jpeg" ContentType="image/jpeg"/>
  <Override PartName="/ppt/media/image3.jpeg" ContentType="image/jpeg"/>
  <Override PartName="/ppt/media/image15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5772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75772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1932-B862-4FC7-A28C-94D17C0A3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D139-3096-4E31-B56F-E00B4CC2A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94E1-8EA2-40D2-AEFA-FA3E2828A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C179-3017-4D11-ABFB-6A9213B0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982A-6008-4FB9-B992-ACC24265C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F9C6-C7E0-41AE-84F2-BCE670AD3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F8AF-74FA-4479-8C48-A0A4EF7A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FF30-C89D-497B-85B1-512F4B7F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A37A-679D-441D-A19B-5F6D26D5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8938-CD88-443C-8F08-472D2BD0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4287-631D-43C8-91D9-699015A5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A937-9988-49EC-B300-B9A72056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58AC-8DAA-4E97-91AB-1857D1F6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73D4-EA24-43C5-A5A1-0D8DF1A3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98B3-6D13-42AA-B765-30BE9DC12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51818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 tiene…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2557440" y="2438280"/>
            <a:ext cx="475776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 tengo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5181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 tiene…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5105520" y="3581280"/>
            <a:ext cx="3676680" cy="2876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https://encrypted-tbn1.google.com/images?q=tbn:ANd9GcTyoo-SUuouIbAEUo3hocOEwWqSRDsR-mtunwLn2PGlqMbAZ6Tm"/>
          <p:cNvPicPr/>
          <p:nvPr/>
        </p:nvPicPr>
        <p:blipFill>
          <a:blip r:embed="rId2"/>
          <a:stretch/>
        </p:blipFill>
        <p:spPr>
          <a:xfrm>
            <a:off x="5410080" y="609480"/>
            <a:ext cx="3048120" cy="24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 tengo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5181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 tiene…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4572000" y="277920"/>
            <a:ext cx="4222800" cy="3303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5757840" y="3809880"/>
            <a:ext cx="3005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 tengo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5181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 tiene…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5410080" y="3962520"/>
            <a:ext cx="3353040" cy="2663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4876920" y="573120"/>
            <a:ext cx="350496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 tengo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5181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 tiene…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5105520" y="3581280"/>
            <a:ext cx="3228840" cy="2552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2"/>
          <a:stretch/>
        </p:blipFill>
        <p:spPr>
          <a:xfrm>
            <a:off x="5095800" y="304920"/>
            <a:ext cx="39308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 tengo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5181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 tiene…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4724280" y="228600"/>
            <a:ext cx="3951360" cy="3124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https://encrypted-tbn0.google.com/images?q=tbn:ANd9GcQ0DGk9J0P8Fvybt9Pf4tWSlo6z79vDO_F8OxxvkZpQF1F09nSlDA"/>
          <p:cNvPicPr/>
          <p:nvPr/>
        </p:nvPicPr>
        <p:blipFill>
          <a:blip r:embed="rId2"/>
          <a:stretch/>
        </p:blipFill>
        <p:spPr>
          <a:xfrm>
            <a:off x="5176800" y="3962520"/>
            <a:ext cx="3476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 tengo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5181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 tiene…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5105520" y="3095640"/>
            <a:ext cx="3844800" cy="3048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https://encrypted-tbn0.google.com/images?q=tbn:ANd9GcQ0DGk9J0P8Fvybt9Pf4tWSlo6z79vDO_F8OxxvkZpQF1F09nSlDA"/>
          <p:cNvPicPr/>
          <p:nvPr/>
        </p:nvPicPr>
        <p:blipFill>
          <a:blip r:embed="rId2"/>
          <a:stretch/>
        </p:blipFill>
        <p:spPr>
          <a:xfrm>
            <a:off x="5105520" y="339840"/>
            <a:ext cx="327636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 tengo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5181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 tiene…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rcRect l="1317" t="0" r="1162" b="0"/>
          <a:stretch/>
        </p:blipFill>
        <p:spPr>
          <a:xfrm>
            <a:off x="5245200" y="3657600"/>
            <a:ext cx="3481200" cy="2514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4648320" y="152280"/>
            <a:ext cx="3844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 tengo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5181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 tiene…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rcRect l="1317" t="0" r="1162" b="0"/>
          <a:stretch/>
        </p:blipFill>
        <p:spPr>
          <a:xfrm>
            <a:off x="4800600" y="762120"/>
            <a:ext cx="3594240" cy="2595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https://encrypted-tbn0.google.com/images?q=tbn:ANd9GcSBj0NlndhvvL8v5o72Uw3KMaMXLV1GQLuPXjoyesTJQbzIcIpO"/>
          <p:cNvPicPr/>
          <p:nvPr/>
        </p:nvPicPr>
        <p:blipFill>
          <a:blip r:embed="rId2"/>
          <a:stretch/>
        </p:blipFill>
        <p:spPr>
          <a:xfrm>
            <a:off x="5735520" y="3505320"/>
            <a:ext cx="17240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 tengo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5181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 tiene…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5257800" y="3809880"/>
            <a:ext cx="3276720" cy="2543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https://encrypted-tbn0.google.com/images?q=tbn:ANd9GcSBj0NlndhvvL8v5o72Uw3KMaMXLV1GQLuPXjoyesTJQbzIcIpO"/>
          <p:cNvPicPr/>
          <p:nvPr/>
        </p:nvPicPr>
        <p:blipFill>
          <a:blip r:embed="rId2"/>
          <a:stretch/>
        </p:blipFill>
        <p:spPr>
          <a:xfrm>
            <a:off x="5486400" y="457200"/>
            <a:ext cx="17240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 tengo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5181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 tiene…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4724280" y="20520"/>
            <a:ext cx="4122720" cy="3200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5181480" y="3581280"/>
            <a:ext cx="3868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 tengo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5181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 tiene…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648320" y="476280"/>
            <a:ext cx="3790800" cy="2952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2"/>
          <a:srcRect l="840" t="0" r="1317" b="0"/>
          <a:stretch/>
        </p:blipFill>
        <p:spPr>
          <a:xfrm>
            <a:off x="5541840" y="4267080"/>
            <a:ext cx="3175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 tengo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5181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 tiene…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4800600" y="457200"/>
            <a:ext cx="3868560" cy="2743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https://encrypted-tbn3.google.com/images?q=tbn:ANd9GcQDpSq5ygU4WtMUpcHR-6ycSHtnDd9I9xGRjnDyIVPARSm0R7FBKQ"/>
          <p:cNvPicPr/>
          <p:nvPr/>
        </p:nvPicPr>
        <p:blipFill>
          <a:blip r:embed="rId2"/>
          <a:stretch/>
        </p:blipFill>
        <p:spPr>
          <a:xfrm>
            <a:off x="5424480" y="39625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 tengo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5181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 tiene…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1"/>
          <a:srcRect l="0" t="0" r="641" b="0"/>
          <a:stretch/>
        </p:blipFill>
        <p:spPr>
          <a:xfrm>
            <a:off x="5486400" y="3886200"/>
            <a:ext cx="2813040" cy="1996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https://encrypted-tbn3.google.com/images?q=tbn:ANd9GcQDpSq5ygU4WtMUpcHR-6ycSHtnDd9I9xGRjnDyIVPARSm0R7FBKQ"/>
          <p:cNvPicPr/>
          <p:nvPr/>
        </p:nvPicPr>
        <p:blipFill>
          <a:blip r:embed="rId2"/>
          <a:stretch/>
        </p:blipFill>
        <p:spPr>
          <a:xfrm>
            <a:off x="5257800" y="90180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 tengo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5181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 tiene…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"/>
          <p:cNvPicPr/>
          <p:nvPr/>
        </p:nvPicPr>
        <p:blipFill>
          <a:blip r:embed="rId1"/>
          <a:srcRect l="0" t="0" r="641" b="0"/>
          <a:stretch/>
        </p:blipFill>
        <p:spPr>
          <a:xfrm>
            <a:off x="5410080" y="765000"/>
            <a:ext cx="3537000" cy="2511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"/>
          <p:cNvPicPr/>
          <p:nvPr/>
        </p:nvPicPr>
        <p:blipFill>
          <a:blip r:embed="rId2"/>
          <a:srcRect l="0" t="0" r="1023" b="0"/>
          <a:stretch/>
        </p:blipFill>
        <p:spPr>
          <a:xfrm>
            <a:off x="5410080" y="3886200"/>
            <a:ext cx="3227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 tengo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5181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 tiene…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5334120" y="3886200"/>
            <a:ext cx="3124080" cy="2208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2"/>
          <a:srcRect l="0" t="0" r="1023" b="0"/>
          <a:stretch/>
        </p:blipFill>
        <p:spPr>
          <a:xfrm>
            <a:off x="4905360" y="533520"/>
            <a:ext cx="39816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 tengo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5181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 tiene…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4952880" y="457200"/>
            <a:ext cx="3124440" cy="2208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https://encrypted-tbn2.google.com/images?q=tbn:ANd9GcTTtFwZyxJ1v-2eY3x7sAx3MiMHstAlLiTwpjW7q_fUnPfqAnJ2"/>
          <p:cNvPicPr/>
          <p:nvPr/>
        </p:nvPicPr>
        <p:blipFill>
          <a:blip r:embed="rId2"/>
          <a:stretch/>
        </p:blipFill>
        <p:spPr>
          <a:xfrm>
            <a:off x="5372280" y="4114800"/>
            <a:ext cx="22860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 tengo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5181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 tiene…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https://encrypted-tbn2.google.com/images?q=tbn:ANd9GcTTtFwZyxJ1v-2eY3x7sAx3MiMHstAlLiTwpjW7q_fUnPfqAnJ2"/>
          <p:cNvPicPr/>
          <p:nvPr/>
        </p:nvPicPr>
        <p:blipFill>
          <a:blip r:embed="rId1"/>
          <a:stretch/>
        </p:blipFill>
        <p:spPr>
          <a:xfrm>
            <a:off x="5159520" y="662040"/>
            <a:ext cx="3352680" cy="2333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https://encrypted-tbn0.google.com/images?q=tbn:ANd9GcQZ52i52nml7BwWuCSrJASakaZ9Z4l715lSjU0WenJ3t2LIr1lV"/>
          <p:cNvPicPr/>
          <p:nvPr/>
        </p:nvPicPr>
        <p:blipFill>
          <a:blip r:embed="rId2"/>
          <a:stretch/>
        </p:blipFill>
        <p:spPr>
          <a:xfrm>
            <a:off x="5791320" y="3429000"/>
            <a:ext cx="18856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 tengo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51814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https://encrypted-tbn0.google.com/images?q=tbn:ANd9GcQZ52i52nml7BwWuCSrJASakaZ9Z4l715lSjU0WenJ3t2LIr1lV"/>
          <p:cNvPicPr/>
          <p:nvPr/>
        </p:nvPicPr>
        <p:blipFill>
          <a:blip r:embed="rId1"/>
          <a:stretch/>
        </p:blipFill>
        <p:spPr>
          <a:xfrm>
            <a:off x="5181480" y="1143000"/>
            <a:ext cx="25146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 tengo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5181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 tiene…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rcRect l="840" t="0" r="1317" b="0"/>
          <a:stretch/>
        </p:blipFill>
        <p:spPr>
          <a:xfrm>
            <a:off x="5014800" y="533520"/>
            <a:ext cx="3916440" cy="2819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http://cache.gawker.com/assets/images/7/2011/04/0428_sausage.jpg"/>
          <p:cNvPicPr/>
          <p:nvPr/>
        </p:nvPicPr>
        <p:blipFill>
          <a:blip r:embed="rId2"/>
          <a:stretch/>
        </p:blipFill>
        <p:spPr>
          <a:xfrm>
            <a:off x="5181480" y="3962520"/>
            <a:ext cx="4630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 tengo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5181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 tiene…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5410080" y="4038480"/>
            <a:ext cx="3200400" cy="2579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http://cache.gawker.com/assets/images/7/2011/04/0428_sausage.jpg"/>
          <p:cNvPicPr/>
          <p:nvPr/>
        </p:nvPicPr>
        <p:blipFill>
          <a:blip r:embed="rId2"/>
          <a:stretch/>
        </p:blipFill>
        <p:spPr>
          <a:xfrm>
            <a:off x="4610160" y="685800"/>
            <a:ext cx="480060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 tengo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5181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 tiene…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4419720" y="304920"/>
            <a:ext cx="4159080" cy="3352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5029200" y="3505320"/>
            <a:ext cx="39038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 tengo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5181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 tiene…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rcRect l="878" t="0" r="1451" b="0"/>
          <a:stretch/>
        </p:blipFill>
        <p:spPr>
          <a:xfrm>
            <a:off x="5257800" y="3962520"/>
            <a:ext cx="3429000" cy="2473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4929120" y="0"/>
            <a:ext cx="408636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 tengo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5181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 tiene…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rcRect l="878" t="0" r="1451" b="0"/>
          <a:stretch/>
        </p:blipFill>
        <p:spPr>
          <a:xfrm>
            <a:off x="5029200" y="457200"/>
            <a:ext cx="3429000" cy="2473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5257800" y="3814920"/>
            <a:ext cx="358128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 tengo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5181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 tiene…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5334120" y="3733920"/>
            <a:ext cx="3257280" cy="2571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tretch/>
        </p:blipFill>
        <p:spPr>
          <a:xfrm>
            <a:off x="5327640" y="762120"/>
            <a:ext cx="358128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 tengo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5181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 tiene…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4495680" y="228600"/>
            <a:ext cx="434340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https://encrypted-tbn1.google.com/images?q=tbn:ANd9GcTyoo-SUuouIbAEUo3hocOEwWqSRDsR-mtunwLn2PGlqMbAZ6Tm"/>
          <p:cNvPicPr/>
          <p:nvPr/>
        </p:nvPicPr>
        <p:blipFill>
          <a:blip r:embed="rId2"/>
          <a:stretch/>
        </p:blipFill>
        <p:spPr>
          <a:xfrm>
            <a:off x="5638680" y="4038480"/>
            <a:ext cx="237168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8T15:50:58Z</dcterms:created>
  <dc:creator>System User</dc:creator>
  <dc:description/>
  <dc:language>en-US</dc:language>
  <cp:lastModifiedBy>System User</cp:lastModifiedBy>
  <cp:lastPrinted>2012-04-26T14:40:41Z</cp:lastPrinted>
  <dcterms:modified xsi:type="dcterms:W3CDTF">2012-04-26T14:42:31Z</dcterms:modified>
  <cp:revision>17</cp:revision>
  <dc:subject/>
  <dc:title>Yo tengo… </dc:title>
</cp:coreProperties>
</file>